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05A-B83E-4A31-B97E-C940D83C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05D7-9E64-4848-BFA6-35D7C86D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931-463D-4EE6-BCA0-6C906CDC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260-7E17-487B-8CAB-5818C75E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E00-19A1-4F99-AA5E-A11DA673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0B6-FFA4-4998-8808-819D88AA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E340-2FD1-4A40-8FCD-B83B9727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134D-8675-4872-9400-A2A6B1EA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4B8-5947-4168-AB5E-E2B8257D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AFD-2AC2-41EB-8760-CA43F334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88E-F5C1-4BA0-8800-63046BD4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E991-2256-4D5E-A641-820AFC73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5528-1B5F-4987-9686-AD56CD9E3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" Target="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23.xml"/><Relationship Id="rId5" Type="http://schemas.openxmlformats.org/officeDocument/2006/relationships/slide" Target=""/><Relationship Id="rId6" Type="http://schemas.openxmlformats.org/officeDocument/2006/relationships/image" Target="../media/image14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slide" Target="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6000" spc="-1" strike="noStrike">
                <a:solidFill>
                  <a:srgbClr val="000000"/>
                </a:solidFill>
                <a:latin typeface="Arial"/>
              </a:rPr>
              <a:t>GHICI, GHICITOAREA MEA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6477120" y="5562720"/>
            <a:ext cx="1981080" cy="914400"/>
          </a:xfrm>
          <a:custGeom>
            <a:avLst/>
            <a:gdLst>
              <a:gd name="textAreaLeft" fmla="*/ 59040 w 1981080"/>
              <a:gd name="textAreaRight" fmla="*/ 1922040 w 198108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46787" h="21600">
                <a:moveTo>
                  <a:pt x="0" y="0"/>
                </a:moveTo>
                <a:lnTo>
                  <a:pt x="46787" y="0"/>
                </a:lnTo>
                <a:lnTo>
                  <a:pt x="46787" y="21600"/>
                </a:lnTo>
                <a:lnTo>
                  <a:pt x="0" y="21600"/>
                </a:lnTo>
                <a:close/>
              </a:path>
              <a:path fill="lightenLess" w="46787" h="21600">
                <a:moveTo>
                  <a:pt x="0" y="0"/>
                </a:moveTo>
                <a:lnTo>
                  <a:pt x="46787" y="0"/>
                </a:lnTo>
                <a:lnTo>
                  <a:pt x="45387" y="1400"/>
                </a:lnTo>
                <a:lnTo>
                  <a:pt x="1400" y="1400"/>
                </a:lnTo>
                <a:close/>
              </a:path>
              <a:path fill="darken" w="46787" h="21600">
                <a:moveTo>
                  <a:pt x="46787" y="0"/>
                </a:moveTo>
                <a:lnTo>
                  <a:pt x="46787" y="21600"/>
                </a:lnTo>
                <a:lnTo>
                  <a:pt x="45387" y="20200"/>
                </a:lnTo>
                <a:lnTo>
                  <a:pt x="45387" y="1400"/>
                </a:lnTo>
                <a:close/>
              </a:path>
              <a:path fill="darkenLess" w="46787" h="21600">
                <a:moveTo>
                  <a:pt x="46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7" y="20200"/>
                </a:lnTo>
                <a:close/>
              </a:path>
              <a:path fill="lighten" w="46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STA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867640"/>
          </a:xfrm>
          <a:prstGeom prst="rect">
            <a:avLst/>
          </a:prstGeom>
          <a:solidFill>
            <a:srgbClr val="99c17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M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â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ndru, 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î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nalt 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ş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 frumo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La ochi este luminos;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Urechi are, coarne n-are</a:t>
            </a:r>
            <a:br>
              <a:rPr sz="4000"/>
            </a:b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Ş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 te poart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ă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ro-RO" sz="4000" spc="-1" strike="noStrike">
                <a:solidFill>
                  <a:srgbClr val="000000"/>
                </a:solidFill>
                <a:latin typeface="Cooper Black"/>
              </a:rPr>
              <a:t>î</a:t>
            </a: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n spin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1371600" y="35053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34320" y="38098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e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3733920"/>
            <a:ext cx="1295640" cy="99036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56" h="21600">
                <a:moveTo>
                  <a:pt x="0" y="0"/>
                </a:moveTo>
                <a:lnTo>
                  <a:pt x="28256" y="0"/>
                </a:lnTo>
                <a:lnTo>
                  <a:pt x="28256" y="21600"/>
                </a:lnTo>
                <a:lnTo>
                  <a:pt x="0" y="21600"/>
                </a:lnTo>
                <a:close/>
              </a:path>
              <a:path fill="lightenLess" w="28256" h="21600">
                <a:moveTo>
                  <a:pt x="0" y="0"/>
                </a:moveTo>
                <a:lnTo>
                  <a:pt x="28256" y="0"/>
                </a:lnTo>
                <a:lnTo>
                  <a:pt x="26856" y="1400"/>
                </a:lnTo>
                <a:lnTo>
                  <a:pt x="1400" y="1400"/>
                </a:lnTo>
                <a:close/>
              </a:path>
              <a:path fill="darken" w="28256" h="21600">
                <a:moveTo>
                  <a:pt x="28256" y="0"/>
                </a:moveTo>
                <a:lnTo>
                  <a:pt x="28256" y="21600"/>
                </a:lnTo>
                <a:lnTo>
                  <a:pt x="26856" y="20200"/>
                </a:lnTo>
                <a:lnTo>
                  <a:pt x="26856" y="1400"/>
                </a:lnTo>
                <a:close/>
              </a:path>
              <a:path fill="darkenLess" w="28256" h="21600">
                <a:moveTo>
                  <a:pt x="28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56" y="20200"/>
                </a:lnTo>
                <a:close/>
              </a:path>
              <a:path fill="lighten" w="28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g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2286000" cy="1822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705720" y="4800600"/>
            <a:ext cx="157320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86200" y="457200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838080" y="228600"/>
            <a:ext cx="14479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8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hici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8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6019920"/>
          </a:xfrm>
          <a:prstGeom prst="rect">
            <a:avLst/>
          </a:prstGeom>
          <a:solidFill>
            <a:srgbClr val="b64e8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Î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n cojoc 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î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ntors pe d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Morm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nd moroc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nos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Umbl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 pustnic prin p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d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Dup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 miere, dup</a:t>
            </a:r>
            <a:r>
              <a:rPr b="0" lang="ro-RO" sz="44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 mure</a:t>
            </a: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35812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3733920"/>
            <a:ext cx="1752840" cy="99036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24" h="21600">
                <a:moveTo>
                  <a:pt x="0" y="0"/>
                </a:moveTo>
                <a:lnTo>
                  <a:pt x="38224" y="0"/>
                </a:lnTo>
                <a:lnTo>
                  <a:pt x="38224" y="21600"/>
                </a:lnTo>
                <a:lnTo>
                  <a:pt x="0" y="21600"/>
                </a:lnTo>
                <a:close/>
              </a:path>
              <a:path fill="lightenLess" w="38224" h="21600">
                <a:moveTo>
                  <a:pt x="0" y="0"/>
                </a:moveTo>
                <a:lnTo>
                  <a:pt x="38224" y="0"/>
                </a:lnTo>
                <a:lnTo>
                  <a:pt x="36824" y="1400"/>
                </a:lnTo>
                <a:lnTo>
                  <a:pt x="1400" y="1400"/>
                </a:lnTo>
                <a:close/>
              </a:path>
              <a:path fill="darken" w="38224" h="21600">
                <a:moveTo>
                  <a:pt x="38224" y="0"/>
                </a:moveTo>
                <a:lnTo>
                  <a:pt x="38224" y="21600"/>
                </a:lnTo>
                <a:lnTo>
                  <a:pt x="36824" y="20200"/>
                </a:lnTo>
                <a:lnTo>
                  <a:pt x="36824" y="1400"/>
                </a:lnTo>
                <a:close/>
              </a:path>
              <a:path fill="darkenLess" w="38224" h="21600">
                <a:moveTo>
                  <a:pt x="38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24" y="20200"/>
                </a:lnTo>
                <a:close/>
              </a:path>
              <a:path fill="lighten" w="38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p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1814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791320" y="4495680"/>
            <a:ext cx="2562120" cy="1903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5800" y="4495680"/>
            <a:ext cx="2463840" cy="1892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657600" y="4038480"/>
            <a:ext cx="1752480" cy="1190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0"/>
            <a:ext cx="1905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Ghici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696080" cy="5867280"/>
          </a:xfrm>
          <a:prstGeom prst="rect">
            <a:avLst/>
          </a:prstGeom>
          <a:solidFill>
            <a:srgbClr val="8091e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Barb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ar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Pop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ă 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 nu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i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Coarne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 a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Vac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nu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-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ras Bold ITC"/>
              </a:rPr>
              <a:t>i</a:t>
            </a:r>
            <a:r>
              <a:rPr b="0" lang="ro-RO" sz="4400" spc="-1" strike="noStrike">
                <a:solidFill>
                  <a:srgbClr val="000000"/>
                </a:solidFill>
                <a:latin typeface="Eras Bold IT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1143000" y="54864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00800" y="25146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ăgăruş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 rot="16200000">
            <a:off x="4305240" y="4533840"/>
            <a:ext cx="1218960" cy="990360"/>
          </a:xfrm>
          <a:custGeom>
            <a:avLst/>
            <a:gdLst>
              <a:gd name="textAreaLeft" fmla="*/ 64080 w 1218960"/>
              <a:gd name="textAreaRight" fmla="*/ 1154880 w 12189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6584" h="21600">
                <a:moveTo>
                  <a:pt x="0" y="0"/>
                </a:moveTo>
                <a:lnTo>
                  <a:pt x="26584" y="0"/>
                </a:lnTo>
                <a:lnTo>
                  <a:pt x="26584" y="21600"/>
                </a:lnTo>
                <a:lnTo>
                  <a:pt x="0" y="21600"/>
                </a:lnTo>
                <a:close/>
              </a:path>
              <a:path fill="lightenLess" w="26584" h="21600">
                <a:moveTo>
                  <a:pt x="0" y="0"/>
                </a:moveTo>
                <a:lnTo>
                  <a:pt x="26584" y="0"/>
                </a:lnTo>
                <a:lnTo>
                  <a:pt x="25184" y="1400"/>
                </a:lnTo>
                <a:lnTo>
                  <a:pt x="1400" y="1400"/>
                </a:lnTo>
                <a:close/>
              </a:path>
              <a:path fill="darken" w="26584" h="21600">
                <a:moveTo>
                  <a:pt x="26584" y="0"/>
                </a:moveTo>
                <a:lnTo>
                  <a:pt x="26584" y="21600"/>
                </a:lnTo>
                <a:lnTo>
                  <a:pt x="25184" y="20200"/>
                </a:lnTo>
                <a:lnTo>
                  <a:pt x="25184" y="1400"/>
                </a:lnTo>
                <a:close/>
              </a:path>
              <a:path fill="darkenLess" w="26584" h="21600">
                <a:moveTo>
                  <a:pt x="26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4" y="20200"/>
                </a:lnTo>
                <a:close/>
              </a:path>
              <a:path fill="lighten" w="26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2667240" cy="2125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62720" y="762120"/>
            <a:ext cx="2438280" cy="1793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1066680" y="38862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066680" y="0"/>
            <a:ext cx="1524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hici!</a:t>
            </a:r>
            <a:endParaRPr b="0" lang="en-US" sz="1800" spc="1" strike="noStrike">
              <a:ln w="0">
                <a:noFill/>
              </a:ln>
              <a:solidFill>
                <a:srgbClr val="3333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8153280" cy="6324480"/>
          </a:xfrm>
          <a:prstGeom prst="rect">
            <a:avLst/>
          </a:prstGeom>
          <a:solidFill>
            <a:srgbClr val="98b638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Are g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â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tul foarte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 î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n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i picioarele cam lung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Dac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 vrei s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-i dai o flo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E cam greu la ea s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ă </a:t>
            </a:r>
            <a:r>
              <a:rPr b="0" lang="en-US" sz="3600" spc="-1" strike="noStrike">
                <a:solidFill>
                  <a:srgbClr val="000000"/>
                </a:solidFill>
                <a:latin typeface="Bodoni MT Black"/>
              </a:rPr>
              <a:t>ajungi.</a:t>
            </a:r>
            <a:r>
              <a:rPr b="0" lang="ro-RO" sz="3600" spc="-1" strike="noStrike">
                <a:solidFill>
                  <a:srgbClr val="000000"/>
                </a:solidFill>
                <a:latin typeface="Bodoni MT Black"/>
              </a:rPr>
              <a:t> Ghic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1371600" y="502920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6934320" y="5181480"/>
            <a:ext cx="1371600" cy="99072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9901" h="21600">
                <a:moveTo>
                  <a:pt x="0" y="0"/>
                </a:moveTo>
                <a:lnTo>
                  <a:pt x="29901" y="0"/>
                </a:lnTo>
                <a:lnTo>
                  <a:pt x="29901" y="21600"/>
                </a:lnTo>
                <a:lnTo>
                  <a:pt x="0" y="21600"/>
                </a:lnTo>
                <a:close/>
              </a:path>
              <a:path fill="lightenLess" w="29901" h="21600">
                <a:moveTo>
                  <a:pt x="0" y="0"/>
                </a:moveTo>
                <a:lnTo>
                  <a:pt x="29901" y="0"/>
                </a:lnTo>
                <a:lnTo>
                  <a:pt x="28501" y="1400"/>
                </a:lnTo>
                <a:lnTo>
                  <a:pt x="1400" y="1400"/>
                </a:lnTo>
                <a:close/>
              </a:path>
              <a:path fill="darken" w="29901" h="21600">
                <a:moveTo>
                  <a:pt x="29901" y="0"/>
                </a:moveTo>
                <a:lnTo>
                  <a:pt x="29901" y="21600"/>
                </a:lnTo>
                <a:lnTo>
                  <a:pt x="28501" y="20200"/>
                </a:lnTo>
                <a:lnTo>
                  <a:pt x="28501" y="1400"/>
                </a:lnTo>
                <a:close/>
              </a:path>
              <a:path fill="darkenLess" w="29901" h="21600">
                <a:moveTo>
                  <a:pt x="29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01" y="20200"/>
                </a:lnTo>
                <a:close/>
              </a:path>
              <a:path fill="lighten" w="29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ra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629400" y="3581280"/>
            <a:ext cx="1752480" cy="1567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809880" y="342900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3809880" y="4876920"/>
            <a:ext cx="1752840" cy="99036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24" h="21600">
                <a:moveTo>
                  <a:pt x="0" y="0"/>
                </a:moveTo>
                <a:lnTo>
                  <a:pt x="38224" y="0"/>
                </a:lnTo>
                <a:lnTo>
                  <a:pt x="38224" y="21600"/>
                </a:lnTo>
                <a:lnTo>
                  <a:pt x="0" y="21600"/>
                </a:lnTo>
                <a:close/>
              </a:path>
              <a:path fill="lightenLess" w="38224" h="21600">
                <a:moveTo>
                  <a:pt x="0" y="0"/>
                </a:moveTo>
                <a:lnTo>
                  <a:pt x="38224" y="0"/>
                </a:lnTo>
                <a:lnTo>
                  <a:pt x="36824" y="1400"/>
                </a:lnTo>
                <a:lnTo>
                  <a:pt x="1400" y="1400"/>
                </a:lnTo>
                <a:close/>
              </a:path>
              <a:path fill="darken" w="38224" h="21600">
                <a:moveTo>
                  <a:pt x="38224" y="0"/>
                </a:moveTo>
                <a:lnTo>
                  <a:pt x="38224" y="21600"/>
                </a:lnTo>
                <a:lnTo>
                  <a:pt x="36824" y="20200"/>
                </a:lnTo>
                <a:lnTo>
                  <a:pt x="36824" y="1400"/>
                </a:lnTo>
                <a:close/>
              </a:path>
              <a:path fill="darkenLess" w="38224" h="21600">
                <a:moveTo>
                  <a:pt x="38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24" y="20200"/>
                </a:lnTo>
                <a:close/>
              </a:path>
              <a:path fill="lighten" w="38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914400" y="3581280"/>
            <a:ext cx="2171880" cy="15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155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0" dur="115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2" dur="115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4" dur="1155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155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1155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1155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1155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155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1155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1155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1155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155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1155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1155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1155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673560"/>
            <a:ext cx="8229960" cy="228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_x000b_Eşti prietenul animalelo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791320"/>
          </a:xfrm>
          <a:prstGeom prst="rect">
            <a:avLst/>
          </a:prstGeom>
          <a:solidFill>
            <a:srgbClr val="25555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O sportiv</a:t>
            </a:r>
            <a:r>
              <a:rPr b="0" lang="ro-RO" sz="4800" spc="-1" strike="noStrike">
                <a:solidFill>
                  <a:srgbClr val="000000"/>
                </a:solidFill>
                <a:latin typeface="Cooper Black"/>
              </a:rPr>
              <a:t>ă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cu renu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Umbl</a:t>
            </a:r>
            <a:r>
              <a:rPr b="0" lang="ro-RO" sz="4800" spc="-1" strike="noStrike">
                <a:solidFill>
                  <a:srgbClr val="000000"/>
                </a:solidFill>
                <a:latin typeface="Cooper Black"/>
              </a:rPr>
              <a:t>ă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-n pomi dup</a:t>
            </a:r>
            <a:r>
              <a:rPr b="0" lang="ro-RO" sz="4800" spc="-1" strike="noStrike">
                <a:solidFill>
                  <a:srgbClr val="000000"/>
                </a:solidFill>
                <a:latin typeface="Cooper Black"/>
              </a:rPr>
              <a:t>ă</a:t>
            </a: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 alun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09480" y="49528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3505320" y="2971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ver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6705720" y="4648320"/>
            <a:ext cx="1752480" cy="99036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16" h="21600">
                <a:moveTo>
                  <a:pt x="0" y="0"/>
                </a:moveTo>
                <a:lnTo>
                  <a:pt x="38216" y="0"/>
                </a:lnTo>
                <a:lnTo>
                  <a:pt x="38216" y="21600"/>
                </a:lnTo>
                <a:lnTo>
                  <a:pt x="0" y="21600"/>
                </a:lnTo>
                <a:close/>
              </a:path>
              <a:path fill="lightenLess" w="38216" h="21600">
                <a:moveTo>
                  <a:pt x="0" y="0"/>
                </a:moveTo>
                <a:lnTo>
                  <a:pt x="38216" y="0"/>
                </a:lnTo>
                <a:lnTo>
                  <a:pt x="36816" y="1400"/>
                </a:lnTo>
                <a:lnTo>
                  <a:pt x="1400" y="1400"/>
                </a:lnTo>
                <a:close/>
              </a:path>
              <a:path fill="darken" w="38216" h="21600">
                <a:moveTo>
                  <a:pt x="38216" y="0"/>
                </a:moveTo>
                <a:lnTo>
                  <a:pt x="38216" y="21600"/>
                </a:lnTo>
                <a:lnTo>
                  <a:pt x="36816" y="20200"/>
                </a:lnTo>
                <a:lnTo>
                  <a:pt x="36816" y="1400"/>
                </a:lnTo>
                <a:close/>
              </a:path>
              <a:path fill="darkenLess" w="38216" h="21600">
                <a:moveTo>
                  <a:pt x="38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6" y="20200"/>
                </a:lnTo>
                <a:close/>
              </a:path>
              <a:path fill="lighten" w="38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vul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858000" y="3124080"/>
            <a:ext cx="1512720" cy="154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124080" y="3962520"/>
            <a:ext cx="2486160" cy="1827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685800" y="2743200"/>
            <a:ext cx="1523880" cy="21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2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6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6096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Casa mare-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ş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i duce-n spate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Pe t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ă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lpici adev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ă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rate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Iar pe unde trece las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ă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Fir de-argint 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ş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i de m</a:t>
            </a:r>
            <a:r>
              <a:rPr b="1" lang="ro-RO" sz="4400" spc="-1" strike="noStrike">
                <a:solidFill>
                  <a:srgbClr val="000000"/>
                </a:solidFill>
                <a:latin typeface="Baskerville Old Face"/>
              </a:rPr>
              <a:t>ă</a:t>
            </a: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tase.</a:t>
            </a: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2" action="ppaction://hlinksldjump"/>
          </p:cNvPr>
          <p:cNvSpPr/>
          <p:nvPr/>
        </p:nvSpPr>
        <p:spPr>
          <a:xfrm>
            <a:off x="1143000" y="5105520"/>
            <a:ext cx="1523880" cy="990360"/>
          </a:xfrm>
          <a:custGeom>
            <a:avLst/>
            <a:gdLst>
              <a:gd name="textAreaLeft" fmla="*/ 64080 w 1523880"/>
              <a:gd name="textAreaRight" fmla="*/ 1459800 w 15238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3232" h="21600">
                <a:moveTo>
                  <a:pt x="0" y="0"/>
                </a:moveTo>
                <a:lnTo>
                  <a:pt x="33232" y="0"/>
                </a:lnTo>
                <a:lnTo>
                  <a:pt x="33232" y="21600"/>
                </a:lnTo>
                <a:lnTo>
                  <a:pt x="0" y="21600"/>
                </a:lnTo>
                <a:close/>
              </a:path>
              <a:path fill="lightenLess" w="33232" h="21600">
                <a:moveTo>
                  <a:pt x="0" y="0"/>
                </a:moveTo>
                <a:lnTo>
                  <a:pt x="33232" y="0"/>
                </a:lnTo>
                <a:lnTo>
                  <a:pt x="31832" y="1400"/>
                </a:lnTo>
                <a:lnTo>
                  <a:pt x="1400" y="1400"/>
                </a:lnTo>
                <a:close/>
              </a:path>
              <a:path fill="darken" w="33232" h="21600">
                <a:moveTo>
                  <a:pt x="33232" y="0"/>
                </a:moveTo>
                <a:lnTo>
                  <a:pt x="33232" y="21600"/>
                </a:lnTo>
                <a:lnTo>
                  <a:pt x="31832" y="20200"/>
                </a:lnTo>
                <a:lnTo>
                  <a:pt x="31832" y="1400"/>
                </a:lnTo>
                <a:close/>
              </a:path>
              <a:path fill="darkenLess" w="33232" h="21600">
                <a:moveTo>
                  <a:pt x="33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832" y="20200"/>
                </a:lnTo>
                <a:close/>
              </a:path>
              <a:path fill="lighten" w="33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flutur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2286000" y="762120"/>
            <a:ext cx="1371600" cy="990360"/>
          </a:xfrm>
          <a:custGeom>
            <a:avLst/>
            <a:gdLst>
              <a:gd name="textAreaLeft" fmla="*/ 64080 w 1371600"/>
              <a:gd name="textAreaRight" fmla="*/ 1307520 w 13716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9912" h="21600">
                <a:moveTo>
                  <a:pt x="0" y="0"/>
                </a:moveTo>
                <a:lnTo>
                  <a:pt x="29912" y="0"/>
                </a:lnTo>
                <a:lnTo>
                  <a:pt x="29912" y="21600"/>
                </a:lnTo>
                <a:lnTo>
                  <a:pt x="0" y="21600"/>
                </a:lnTo>
                <a:close/>
              </a:path>
              <a:path fill="lightenLess" w="29912" h="21600">
                <a:moveTo>
                  <a:pt x="0" y="0"/>
                </a:moveTo>
                <a:lnTo>
                  <a:pt x="29912" y="0"/>
                </a:lnTo>
                <a:lnTo>
                  <a:pt x="28512" y="1400"/>
                </a:lnTo>
                <a:lnTo>
                  <a:pt x="1400" y="1400"/>
                </a:lnTo>
                <a:close/>
              </a:path>
              <a:path fill="darken" w="29912" h="21600">
                <a:moveTo>
                  <a:pt x="29912" y="0"/>
                </a:moveTo>
                <a:lnTo>
                  <a:pt x="29912" y="21600"/>
                </a:lnTo>
                <a:lnTo>
                  <a:pt x="28512" y="20200"/>
                </a:lnTo>
                <a:lnTo>
                  <a:pt x="28512" y="1400"/>
                </a:lnTo>
                <a:close/>
              </a:path>
              <a:path fill="darkenLess" w="29912" h="21600">
                <a:moveTo>
                  <a:pt x="299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12" y="20200"/>
                </a:lnTo>
                <a:close/>
              </a:path>
              <a:path fill="lighten" w="299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melc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4952880" y="49528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alb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657600" y="609480"/>
            <a:ext cx="2209680" cy="147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514600" y="4782960"/>
            <a:ext cx="1828800" cy="1694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172200" y="4800600"/>
            <a:ext cx="175248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646600" y="5545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2743200"/>
            <a:ext cx="1390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HICI!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solidFill>
            <a:srgbClr val="de4f32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Cine poate s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-l ajung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Pe acest alerg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tor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Care-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i poart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puii-n pung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? 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Î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l ghiciti foarte u</a:t>
            </a:r>
            <a:r>
              <a:rPr b="0" lang="ro-RO" sz="4400" spc="-1" strike="noStrike">
                <a:solidFill>
                  <a:srgbClr val="000000"/>
                </a:solidFill>
                <a:latin typeface="Bernard MT Condensed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or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62120" y="5257800"/>
            <a:ext cx="1447560" cy="99072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57" h="21600">
                <a:moveTo>
                  <a:pt x="0" y="0"/>
                </a:moveTo>
                <a:lnTo>
                  <a:pt x="31557" y="0"/>
                </a:lnTo>
                <a:lnTo>
                  <a:pt x="31557" y="21600"/>
                </a:lnTo>
                <a:lnTo>
                  <a:pt x="0" y="21600"/>
                </a:lnTo>
                <a:close/>
              </a:path>
              <a:path fill="lightenLess" w="31557" h="21600">
                <a:moveTo>
                  <a:pt x="0" y="0"/>
                </a:moveTo>
                <a:lnTo>
                  <a:pt x="31557" y="0"/>
                </a:lnTo>
                <a:lnTo>
                  <a:pt x="30157" y="1400"/>
                </a:lnTo>
                <a:lnTo>
                  <a:pt x="1400" y="1400"/>
                </a:lnTo>
                <a:close/>
              </a:path>
              <a:path fill="darken" w="31557" h="21600">
                <a:moveTo>
                  <a:pt x="31557" y="0"/>
                </a:moveTo>
                <a:lnTo>
                  <a:pt x="31557" y="21600"/>
                </a:lnTo>
                <a:lnTo>
                  <a:pt x="30157" y="20200"/>
                </a:lnTo>
                <a:lnTo>
                  <a:pt x="30157" y="1400"/>
                </a:lnTo>
                <a:close/>
              </a:path>
              <a:path fill="darkenLess" w="31557" h="21600">
                <a:moveTo>
                  <a:pt x="315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57" y="20200"/>
                </a:lnTo>
                <a:close/>
              </a:path>
              <a:path fill="lighten" w="315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iepur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6858000" y="53341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a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3657600" y="5257800"/>
            <a:ext cx="1447920" cy="990720"/>
          </a:xfrm>
          <a:custGeom>
            <a:avLst/>
            <a:gdLst>
              <a:gd name="textAreaLeft" fmla="*/ 64080 w 1447920"/>
              <a:gd name="textAreaRight" fmla="*/ 1383840 w 14479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1564" h="21600">
                <a:moveTo>
                  <a:pt x="0" y="0"/>
                </a:moveTo>
                <a:lnTo>
                  <a:pt x="31564" y="0"/>
                </a:lnTo>
                <a:lnTo>
                  <a:pt x="31564" y="21600"/>
                </a:lnTo>
                <a:lnTo>
                  <a:pt x="0" y="21600"/>
                </a:lnTo>
                <a:close/>
              </a:path>
              <a:path fill="lightenLess" w="31564" h="21600">
                <a:moveTo>
                  <a:pt x="0" y="0"/>
                </a:moveTo>
                <a:lnTo>
                  <a:pt x="31564" y="0"/>
                </a:lnTo>
                <a:lnTo>
                  <a:pt x="30164" y="1400"/>
                </a:lnTo>
                <a:lnTo>
                  <a:pt x="1400" y="1400"/>
                </a:lnTo>
                <a:close/>
              </a:path>
              <a:path fill="darken" w="31564" h="21600">
                <a:moveTo>
                  <a:pt x="31564" y="0"/>
                </a:moveTo>
                <a:lnTo>
                  <a:pt x="31564" y="21600"/>
                </a:lnTo>
                <a:lnTo>
                  <a:pt x="30164" y="20200"/>
                </a:lnTo>
                <a:lnTo>
                  <a:pt x="30164" y="1400"/>
                </a:lnTo>
                <a:close/>
              </a:path>
              <a:path fill="darkenLess" w="31564" h="21600">
                <a:moveTo>
                  <a:pt x="31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4" y="20200"/>
                </a:lnTo>
                <a:close/>
              </a:path>
              <a:path fill="lighten" w="31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cangu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6705720" y="36576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3352680" y="3505320"/>
            <a:ext cx="2057400" cy="1796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609480" y="3733920"/>
            <a:ext cx="2152800" cy="15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537120"/>
            <a:ext cx="7162920" cy="2531160"/>
          </a:xfrm>
          <a:prstGeom prst="rect">
            <a:avLst/>
          </a:prstGeom>
          <a:solidFill>
            <a:srgbClr val="e0f0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Cumetrita cea sire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Vine-adesea prin vecin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Si-amatoare se ara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e a “cumpara” gai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548640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1958760" cy="2006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124080" y="3809880"/>
            <a:ext cx="1752840" cy="99072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10" h="21600">
                <a:moveTo>
                  <a:pt x="0" y="0"/>
                </a:moveTo>
                <a:lnTo>
                  <a:pt x="38210" y="0"/>
                </a:lnTo>
                <a:lnTo>
                  <a:pt x="38210" y="21600"/>
                </a:lnTo>
                <a:lnTo>
                  <a:pt x="0" y="21600"/>
                </a:lnTo>
                <a:close/>
              </a:path>
              <a:path fill="lightenLess" w="38210" h="21600">
                <a:moveTo>
                  <a:pt x="0" y="0"/>
                </a:moveTo>
                <a:lnTo>
                  <a:pt x="38210" y="0"/>
                </a:lnTo>
                <a:lnTo>
                  <a:pt x="36810" y="1400"/>
                </a:lnTo>
                <a:lnTo>
                  <a:pt x="1400" y="1400"/>
                </a:lnTo>
                <a:close/>
              </a:path>
              <a:path fill="darken" w="38210" h="21600">
                <a:moveTo>
                  <a:pt x="38210" y="0"/>
                </a:moveTo>
                <a:lnTo>
                  <a:pt x="38210" y="21600"/>
                </a:lnTo>
                <a:lnTo>
                  <a:pt x="36810" y="20200"/>
                </a:lnTo>
                <a:lnTo>
                  <a:pt x="36810" y="1400"/>
                </a:lnTo>
                <a:close/>
              </a:path>
              <a:path fill="darkenLess" w="38210" h="21600">
                <a:moveTo>
                  <a:pt x="38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10" y="20200"/>
                </a:lnTo>
                <a:close/>
              </a:path>
              <a:path fill="lighten" w="38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s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3733920"/>
            <a:ext cx="1752840" cy="990360"/>
          </a:xfrm>
          <a:custGeom>
            <a:avLst/>
            <a:gdLst>
              <a:gd name="textAreaLeft" fmla="*/ 64080 w 1752840"/>
              <a:gd name="textAreaRight" fmla="*/ 1688760 w 17528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8224" h="21600">
                <a:moveTo>
                  <a:pt x="0" y="0"/>
                </a:moveTo>
                <a:lnTo>
                  <a:pt x="38224" y="0"/>
                </a:lnTo>
                <a:lnTo>
                  <a:pt x="38224" y="21600"/>
                </a:lnTo>
                <a:lnTo>
                  <a:pt x="0" y="21600"/>
                </a:lnTo>
                <a:close/>
              </a:path>
              <a:path fill="lightenLess" w="38224" h="21600">
                <a:moveTo>
                  <a:pt x="0" y="0"/>
                </a:moveTo>
                <a:lnTo>
                  <a:pt x="38224" y="0"/>
                </a:lnTo>
                <a:lnTo>
                  <a:pt x="36824" y="1400"/>
                </a:lnTo>
                <a:lnTo>
                  <a:pt x="1400" y="1400"/>
                </a:lnTo>
                <a:close/>
              </a:path>
              <a:path fill="darken" w="38224" h="21600">
                <a:moveTo>
                  <a:pt x="38224" y="0"/>
                </a:moveTo>
                <a:lnTo>
                  <a:pt x="38224" y="21600"/>
                </a:lnTo>
                <a:lnTo>
                  <a:pt x="36824" y="20200"/>
                </a:lnTo>
                <a:lnTo>
                  <a:pt x="36824" y="1400"/>
                </a:lnTo>
                <a:close/>
              </a:path>
              <a:path fill="darkenLess" w="38224" h="21600">
                <a:moveTo>
                  <a:pt x="38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24" y="20200"/>
                </a:lnTo>
                <a:close/>
              </a:path>
              <a:path fill="lighten" w="38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p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095880" y="4495680"/>
            <a:ext cx="2562480" cy="19036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200400" y="4724280"/>
            <a:ext cx="2463840" cy="18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400"/>
                            </p:stCondLst>
                            <p:childTnLst>
                              <p:par>
                                <p:cTn id="4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400"/>
                            </p:stCondLst>
                            <p:childTnLst>
                              <p:par>
                                <p:cTn id="4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400"/>
                            </p:stCondLst>
                            <p:childTnLst>
                              <p:par>
                                <p:cTn id="4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previousslide"/>
          </p:cNvPr>
          <p:cNvSpPr/>
          <p:nvPr/>
        </p:nvSpPr>
        <p:spPr>
          <a:xfrm>
            <a:off x="1371600" y="1676520"/>
            <a:ext cx="6248520" cy="2895480"/>
          </a:xfrm>
          <a:custGeom>
            <a:avLst/>
            <a:gdLst>
              <a:gd name="textAreaLeft" fmla="*/ 0 w 6248520"/>
              <a:gd name="textAreaRight" fmla="*/ 6248880 w 6248520"/>
              <a:gd name="textAreaTop" fmla="*/ 375120 h 2895480"/>
              <a:gd name="textAreaBottom" fmla="*/ 25203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000000"/>
                </a:solidFill>
                <a:latin typeface="Brush Script MT"/>
              </a:rPr>
              <a:t>Ai greşit! Mai încearc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66680" y="1796400"/>
            <a:ext cx="7391880" cy="242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BRAV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Eşti prietenul animalel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381880" cy="59436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E l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â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nos 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ş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i st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ă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 la st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â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n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Ş</a:t>
            </a:r>
            <a:r>
              <a:rPr b="0" lang="en-US" sz="6000" spc="-1" strike="noStrike">
                <a:solidFill>
                  <a:srgbClr val="000000"/>
                </a:solidFill>
                <a:latin typeface="Elephant"/>
              </a:rPr>
              <a:t>i pe oi el le adun</a:t>
            </a:r>
            <a:r>
              <a:rPr b="0" lang="ro-RO" sz="6000" spc="-1" strike="noStrike">
                <a:solidFill>
                  <a:srgbClr val="000000"/>
                </a:solidFill>
                <a:latin typeface="Elephant"/>
              </a:rPr>
              <a:t>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914400" y="541008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3429000" y="5257800"/>
            <a:ext cx="1752480" cy="990720"/>
          </a:xfrm>
          <a:custGeom>
            <a:avLst/>
            <a:gdLst>
              <a:gd name="textAreaLeft" fmla="*/ 64080 w 1752480"/>
              <a:gd name="textAreaRight" fmla="*/ 1688400 w 17524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38202" h="21600">
                <a:moveTo>
                  <a:pt x="0" y="0"/>
                </a:moveTo>
                <a:lnTo>
                  <a:pt x="38202" y="0"/>
                </a:lnTo>
                <a:lnTo>
                  <a:pt x="38202" y="21600"/>
                </a:lnTo>
                <a:lnTo>
                  <a:pt x="0" y="21600"/>
                </a:lnTo>
                <a:close/>
              </a:path>
              <a:path fill="lightenLess" w="38202" h="21600">
                <a:moveTo>
                  <a:pt x="0" y="0"/>
                </a:moveTo>
                <a:lnTo>
                  <a:pt x="38202" y="0"/>
                </a:lnTo>
                <a:lnTo>
                  <a:pt x="36802" y="1400"/>
                </a:lnTo>
                <a:lnTo>
                  <a:pt x="1400" y="1400"/>
                </a:lnTo>
                <a:close/>
              </a:path>
              <a:path fill="darken" w="38202" h="21600">
                <a:moveTo>
                  <a:pt x="38202" y="0"/>
                </a:moveTo>
                <a:lnTo>
                  <a:pt x="38202" y="21600"/>
                </a:lnTo>
                <a:lnTo>
                  <a:pt x="36802" y="20200"/>
                </a:lnTo>
                <a:lnTo>
                  <a:pt x="36802" y="1400"/>
                </a:lnTo>
                <a:close/>
              </a:path>
              <a:path fill="darkenLess" w="38202" h="21600">
                <a:moveTo>
                  <a:pt x="382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02" y="20200"/>
                </a:lnTo>
                <a:close/>
              </a:path>
              <a:path fill="lighten" w="382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up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 action="ppaction://hlinksldjump"/>
          </p:cNvPr>
          <p:cNvSpPr/>
          <p:nvPr/>
        </p:nvSpPr>
        <p:spPr>
          <a:xfrm>
            <a:off x="6553080" y="5410080"/>
            <a:ext cx="1447920" cy="838440"/>
          </a:xfrm>
          <a:custGeom>
            <a:avLst/>
            <a:gdLst>
              <a:gd name="textAreaLeft" fmla="*/ 54360 w 1447920"/>
              <a:gd name="textAreaRight" fmla="*/ 1393560 w 14479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7295" h="21600">
                <a:moveTo>
                  <a:pt x="0" y="0"/>
                </a:moveTo>
                <a:lnTo>
                  <a:pt x="37295" y="0"/>
                </a:lnTo>
                <a:lnTo>
                  <a:pt x="37295" y="21600"/>
                </a:lnTo>
                <a:lnTo>
                  <a:pt x="0" y="21600"/>
                </a:lnTo>
                <a:close/>
              </a:path>
              <a:path fill="lightenLess" w="37295" h="21600">
                <a:moveTo>
                  <a:pt x="0" y="0"/>
                </a:moveTo>
                <a:lnTo>
                  <a:pt x="37295" y="0"/>
                </a:lnTo>
                <a:lnTo>
                  <a:pt x="35895" y="1400"/>
                </a:lnTo>
                <a:lnTo>
                  <a:pt x="1400" y="1400"/>
                </a:lnTo>
                <a:close/>
              </a:path>
              <a:path fill="darken" w="37295" h="21600">
                <a:moveTo>
                  <a:pt x="37295" y="0"/>
                </a:moveTo>
                <a:lnTo>
                  <a:pt x="37295" y="21600"/>
                </a:lnTo>
                <a:lnTo>
                  <a:pt x="35895" y="20200"/>
                </a:lnTo>
                <a:lnTo>
                  <a:pt x="35895" y="1400"/>
                </a:lnTo>
                <a:close/>
              </a:path>
              <a:path fill="darkenLess" w="37295" h="21600">
                <a:moveTo>
                  <a:pt x="37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895" y="20200"/>
                </a:lnTo>
                <a:close/>
              </a:path>
              <a:path fill="lighten" w="37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al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200400" y="3429000"/>
            <a:ext cx="2562120" cy="1903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019920" y="3352680"/>
            <a:ext cx="2666880" cy="212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09480" y="3352680"/>
            <a:ext cx="2286000" cy="2095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838080" y="0"/>
            <a:ext cx="13906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HICI!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5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350"/>
                            </p:stCondLst>
                            <p:childTnLst>
                              <p:par>
                                <p:cTn id="8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35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8229600" cy="5791320"/>
          </a:xfrm>
          <a:prstGeom prst="rect">
            <a:avLst/>
          </a:prstGeom>
          <a:solidFill>
            <a:srgbClr val="df5517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Nu-i pisic</a:t>
            </a:r>
            <a:r>
              <a:rPr b="0" lang="ro-RO" sz="5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, nici mota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E v</a:t>
            </a:r>
            <a:r>
              <a:rPr b="0" lang="ro-RO" sz="5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rgat </a:t>
            </a:r>
            <a:r>
              <a:rPr b="0" lang="ro-RO" sz="5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i ro</a:t>
            </a:r>
            <a:r>
              <a:rPr b="0" lang="ro-RO" sz="5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5400" spc="-1" strike="noStrike">
                <a:solidFill>
                  <a:srgbClr val="000000"/>
                </a:solidFill>
                <a:latin typeface="Bodoni MT Black"/>
              </a:rPr>
              <a:t>covan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990720" y="3733920"/>
            <a:ext cx="1447560" cy="990360"/>
          </a:xfrm>
          <a:custGeom>
            <a:avLst/>
            <a:gdLst>
              <a:gd name="textAreaLeft" fmla="*/ 64080 w 1447560"/>
              <a:gd name="textAreaRight" fmla="*/ 1383480 w 144756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1568" h="21600">
                <a:moveTo>
                  <a:pt x="0" y="0"/>
                </a:moveTo>
                <a:lnTo>
                  <a:pt x="31568" y="0"/>
                </a:lnTo>
                <a:lnTo>
                  <a:pt x="31568" y="21600"/>
                </a:lnTo>
                <a:lnTo>
                  <a:pt x="0" y="21600"/>
                </a:lnTo>
                <a:close/>
              </a:path>
              <a:path fill="lightenLess" w="31568" h="21600">
                <a:moveTo>
                  <a:pt x="0" y="0"/>
                </a:moveTo>
                <a:lnTo>
                  <a:pt x="31568" y="0"/>
                </a:lnTo>
                <a:lnTo>
                  <a:pt x="30168" y="1400"/>
                </a:lnTo>
                <a:lnTo>
                  <a:pt x="1400" y="1400"/>
                </a:lnTo>
                <a:close/>
              </a:path>
              <a:path fill="darken" w="31568" h="21600">
                <a:moveTo>
                  <a:pt x="31568" y="0"/>
                </a:moveTo>
                <a:lnTo>
                  <a:pt x="31568" y="21600"/>
                </a:lnTo>
                <a:lnTo>
                  <a:pt x="30168" y="20200"/>
                </a:lnTo>
                <a:lnTo>
                  <a:pt x="30168" y="1400"/>
                </a:lnTo>
                <a:close/>
              </a:path>
              <a:path fill="darkenLess" w="31568" h="21600">
                <a:moveTo>
                  <a:pt x="31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68" y="20200"/>
                </a:lnTo>
                <a:close/>
              </a:path>
              <a:path fill="lighten" w="31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g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3809880" y="5105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e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3" action="ppaction://hlinksldjump"/>
          </p:cNvPr>
          <p:cNvSpPr/>
          <p:nvPr/>
        </p:nvSpPr>
        <p:spPr>
          <a:xfrm>
            <a:off x="6781680" y="3657600"/>
            <a:ext cx="1295640" cy="990720"/>
          </a:xfrm>
          <a:custGeom>
            <a:avLst/>
            <a:gdLst>
              <a:gd name="textAreaLeft" fmla="*/ 64080 w 1295640"/>
              <a:gd name="textAreaRight" fmla="*/ 1231560 w 129564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46" h="21600">
                <a:moveTo>
                  <a:pt x="0" y="0"/>
                </a:moveTo>
                <a:lnTo>
                  <a:pt x="28246" y="0"/>
                </a:lnTo>
                <a:lnTo>
                  <a:pt x="28246" y="21600"/>
                </a:lnTo>
                <a:lnTo>
                  <a:pt x="0" y="21600"/>
                </a:lnTo>
                <a:close/>
              </a:path>
              <a:path fill="lightenLess" w="28246" h="21600">
                <a:moveTo>
                  <a:pt x="0" y="0"/>
                </a:moveTo>
                <a:lnTo>
                  <a:pt x="28246" y="0"/>
                </a:lnTo>
                <a:lnTo>
                  <a:pt x="26846" y="1400"/>
                </a:lnTo>
                <a:lnTo>
                  <a:pt x="1400" y="1400"/>
                </a:lnTo>
                <a:close/>
              </a:path>
              <a:path fill="darken" w="28246" h="21600">
                <a:moveTo>
                  <a:pt x="28246" y="0"/>
                </a:moveTo>
                <a:lnTo>
                  <a:pt x="28246" y="21600"/>
                </a:lnTo>
                <a:lnTo>
                  <a:pt x="26846" y="20200"/>
                </a:lnTo>
                <a:lnTo>
                  <a:pt x="26846" y="1400"/>
                </a:lnTo>
                <a:close/>
              </a:path>
              <a:path fill="darkenLess" w="28246" h="21600">
                <a:moveTo>
                  <a:pt x="28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6" y="20200"/>
                </a:lnTo>
                <a:close/>
              </a:path>
              <a:path fill="lighten" w="28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zimb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352680" y="2819520"/>
            <a:ext cx="209880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838080" y="46483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5943600" y="4648320"/>
            <a:ext cx="2776680" cy="1708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09480" y="228600"/>
            <a:ext cx="13906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GHICI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324480" y="3886200"/>
            <a:ext cx="213372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01000" cy="624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Nu e cal, dar are coam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i-i puternic f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r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seam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, </a:t>
            </a:r>
            <a:br>
              <a:rPr sz="4400"/>
            </a:b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Î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l ghice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ti u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ş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or, c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â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nd vre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C</a:t>
            </a:r>
            <a:r>
              <a:rPr b="0" lang="ro-RO" sz="4400" spc="-1" strike="noStrike">
                <a:solidFill>
                  <a:srgbClr val="000000"/>
                </a:solidFill>
                <a:latin typeface="Bodoni MT Black"/>
              </a:rPr>
              <a:t>ă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e scris pe banii mei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066680" y="42670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gr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3429000" y="4876920"/>
            <a:ext cx="1066680" cy="76176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0242" h="21600">
                <a:moveTo>
                  <a:pt x="0" y="0"/>
                </a:moveTo>
                <a:lnTo>
                  <a:pt x="30242" y="0"/>
                </a:lnTo>
                <a:lnTo>
                  <a:pt x="30242" y="21600"/>
                </a:lnTo>
                <a:lnTo>
                  <a:pt x="0" y="21600"/>
                </a:lnTo>
                <a:close/>
              </a:path>
              <a:path fill="lightenLess" w="30242" h="21600">
                <a:moveTo>
                  <a:pt x="0" y="0"/>
                </a:moveTo>
                <a:lnTo>
                  <a:pt x="30242" y="0"/>
                </a:lnTo>
                <a:lnTo>
                  <a:pt x="28842" y="1400"/>
                </a:lnTo>
                <a:lnTo>
                  <a:pt x="1400" y="1400"/>
                </a:lnTo>
                <a:close/>
              </a:path>
              <a:path fill="darken" w="30242" h="21600">
                <a:moveTo>
                  <a:pt x="30242" y="0"/>
                </a:moveTo>
                <a:lnTo>
                  <a:pt x="30242" y="21600"/>
                </a:lnTo>
                <a:lnTo>
                  <a:pt x="28842" y="20200"/>
                </a:lnTo>
                <a:lnTo>
                  <a:pt x="28842" y="1400"/>
                </a:lnTo>
                <a:close/>
              </a:path>
              <a:path fill="darkenLess" w="30242" h="21600">
                <a:moveTo>
                  <a:pt x="30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2" y="20200"/>
                </a:lnTo>
                <a:close/>
              </a:path>
              <a:path fill="lighten" w="30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495680" y="4495680"/>
            <a:ext cx="1216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62120" y="49528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066680" y="2971800"/>
            <a:ext cx="14479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hici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6172200" y="4267080"/>
            <a:ext cx="213372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7" action="ppaction://hlinksldjump"/>
          </p:cNvPr>
          <p:cNvSpPr/>
          <p:nvPr/>
        </p:nvSpPr>
        <p:spPr>
          <a:xfrm>
            <a:off x="6324480" y="4114800"/>
            <a:ext cx="1295640" cy="609480"/>
          </a:xfrm>
          <a:custGeom>
            <a:avLst/>
            <a:gdLst>
              <a:gd name="textAreaLeft" fmla="*/ 39240 w 1295640"/>
              <a:gd name="textAreaRight" fmla="*/ 1256400 w 12956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5903" h="21600">
                <a:moveTo>
                  <a:pt x="0" y="0"/>
                </a:moveTo>
                <a:lnTo>
                  <a:pt x="45903" y="0"/>
                </a:lnTo>
                <a:lnTo>
                  <a:pt x="45903" y="21600"/>
                </a:lnTo>
                <a:lnTo>
                  <a:pt x="0" y="21600"/>
                </a:lnTo>
                <a:close/>
              </a:path>
              <a:path fill="lightenLess" w="45903" h="21600">
                <a:moveTo>
                  <a:pt x="0" y="0"/>
                </a:moveTo>
                <a:lnTo>
                  <a:pt x="45903" y="0"/>
                </a:lnTo>
                <a:lnTo>
                  <a:pt x="44503" y="1400"/>
                </a:lnTo>
                <a:lnTo>
                  <a:pt x="1400" y="1400"/>
                </a:lnTo>
                <a:close/>
              </a:path>
              <a:path fill="darken" w="45903" h="21600">
                <a:moveTo>
                  <a:pt x="45903" y="0"/>
                </a:moveTo>
                <a:lnTo>
                  <a:pt x="45903" y="21600"/>
                </a:lnTo>
                <a:lnTo>
                  <a:pt x="44503" y="20200"/>
                </a:lnTo>
                <a:lnTo>
                  <a:pt x="44503" y="1400"/>
                </a:lnTo>
                <a:close/>
              </a:path>
              <a:path fill="darkenLess" w="45903" h="21600">
                <a:moveTo>
                  <a:pt x="459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503" y="20200"/>
                </a:lnTo>
                <a:close/>
              </a:path>
              <a:path fill="lighten" w="459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pant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86640"/>
            <a:ext cx="8229960" cy="335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RAV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Eşti prietenul animalelo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2:28:31Z</dcterms:created>
  <dc:creator>Adi</dc:creator>
  <dc:description/>
  <dc:language>en-US</dc:language>
  <cp:lastModifiedBy>Adi</cp:lastModifiedBy>
  <dcterms:modified xsi:type="dcterms:W3CDTF">2010-01-09T11:37:18Z</dcterms:modified>
  <cp:revision>3</cp:revision>
  <dc:subject/>
  <dc:title>Casa mare-si duce-n spate,  Pe talpici adevarate, Iar pe unde trece lasa Fir de-argint si de matase. </dc:title>
</cp:coreProperties>
</file>